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A85E-145C-4008-8FDF-BE56FFED7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26F5-5464-4D99-B607-511883323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FDBB-2631-4FDE-80DF-6BD32C69C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4766-704E-4ED6-96AC-C394E5772C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7B51-C08D-4F02-8309-D131775098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F88E-588E-49E8-9770-5E80C7E36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8F8B-B410-47F0-AF16-145FF4032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95F1-315F-43FB-B8FA-28D245246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BE0B-EE83-4635-A970-56BDAD109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99C3-6961-4FFB-B6F4-FDB0D3992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2115-7BCA-4CD4-9C8B-251F3730A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4983-4017-415D-B518-D542A5F2F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81AFB8-C0B1-4DDC-B385-BF3E73BBD8A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rela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QUÉ ES LA CEFALIZA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9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Qué es la cefaliza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7"/>
          <p:cNvSpPr/>
          <p:nvPr/>
        </p:nvSpPr>
        <p:spPr>
          <a:xfrm>
            <a:off x="900000" y="1557360"/>
            <a:ext cx="763272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ste en la diferenciación de un extremo cefálico o cab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cha cabeza acumula gran parte de los órganos sensoriales (ojos, quimiorreceptores, oído..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suele incluir la boca, puesto que gran parte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ctividad del animal está dirigida a conseguir alim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Cef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57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Qué es la cefaliza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7"/>
          <p:cNvSpPr/>
          <p:nvPr/>
        </p:nvSpPr>
        <p:spPr>
          <a:xfrm>
            <a:off x="82692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stintos grados de cef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2249640" cy="241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5435640" y="3860640"/>
            <a:ext cx="3425760" cy="261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4"/>
          <a:stretch/>
        </p:blipFill>
        <p:spPr>
          <a:xfrm>
            <a:off x="250920" y="436572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755640" y="1341360"/>
            <a:ext cx="806436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unos animales como las esponjas, los pólipos,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medusas y las estrellas de mar carecen de cab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 como los anélidos y las planarias tienen una cierta cefalización, solo con leves especializaciones en su extremo anteri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 animales como artrópodos o vertebrados muestran una cefalización muy marcada, con una cabeza muy especializ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general se observa una tendencia evolutiva hacia la cefal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luis</cp:lastModifiedBy>
  <dcterms:modified xsi:type="dcterms:W3CDTF">2012-10-28T09:35:19Z</dcterms:modified>
  <cp:revision>8</cp:revision>
  <dc:subject/>
  <dc:title>Presentación de PowerPoint</dc:title>
</cp:coreProperties>
</file>